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A3A-6341-4D37-BEAD-C3BDDA27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ECB-EF19-46E4-B090-9E06B59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2ED-A434-475E-A843-6A6D2DB4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AA6-8E7F-40FA-BFD3-C12C97D8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680-AD1A-45AF-99AA-9BF19DA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BE1-A07A-4279-B4BB-D4D79CF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05B-8F04-4C09-A149-92D125B1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ED7-057A-4135-A266-5C7932A7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D15-DFD6-44EC-B9B5-7E9C5DE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E90-FA00-47AC-82DC-849155F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099-3C33-42AA-90FB-42E519E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D18-4E58-4F50-A975-89CAC24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96BA-D275-40E7-B8EF-0D4D97A5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63680" y="3906720"/>
            <a:ext cx="2884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Randolf Caldecott was considered by many to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be the best illustrator of children’s books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nthe world. So much so that in the USA, ther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s a prize given every year, the </a:t>
            </a:r>
            <a:r>
              <a:rPr b="0" lang="en-US" sz="700" spc="-1" strike="noStrike" u="sng">
                <a:solidFill>
                  <a:srgbClr val="808080"/>
                </a:solidFill>
                <a:uFillTx/>
                <a:latin typeface="'Palatino Linotype'"/>
              </a:rPr>
              <a:t>Caldecott Medal</a:t>
            </a: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,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for the illustrator who produces what th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judges consider to be the best illustrated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children’s book of that year.</a:t>
            </a:r>
            <a:r>
              <a:rPr b="0" lang="en-US" sz="700" spc="-1" strike="noStrike">
                <a:solidFill>
                  <a:srgbClr val="808080"/>
                </a:solidFill>
                <a:latin typeface="'Palatino Linotype'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empShape.PNG"/>
          <p:cNvPicPr/>
          <p:nvPr/>
        </p:nvPicPr>
        <p:blipFill>
          <a:blip r:embed="rId2"/>
          <a:stretch/>
        </p:blipFill>
        <p:spPr>
          <a:xfrm>
            <a:off x="485640" y="28440"/>
            <a:ext cx="267336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tempShape.PNG"/>
          <p:cNvPicPr/>
          <p:nvPr/>
        </p:nvPicPr>
        <p:blipFill>
          <a:blip r:embed="rId3"/>
          <a:stretch/>
        </p:blipFill>
        <p:spPr>
          <a:xfrm>
            <a:off x="3660840" y="71280"/>
            <a:ext cx="24987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empShape.PNG"/>
          <p:cNvPicPr/>
          <p:nvPr/>
        </p:nvPicPr>
        <p:blipFill>
          <a:blip r:embed="rId2"/>
          <a:stretch/>
        </p:blipFill>
        <p:spPr>
          <a:xfrm>
            <a:off x="2279520" y="449280"/>
            <a:ext cx="6196320" cy="3338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17440" y="949320"/>
            <a:ext cx="190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e Caldecott Medal is based on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is illustration by Randolf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Caldecott.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92160" y="20937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The illustration on the Caldecott Medal,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which is taken from Caldecott's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illustrations for "The Diverting Story of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John Gilpin," is a perfect example of the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umor, vitality, and sense of movement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found in Caldecott's work. The illustration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shows John Gilpin astride a runaway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orse, accompanied by squawking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geese, braying dogs, and startled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onlookers.</a:t>
            </a:r>
            <a:r>
              <a:rPr b="0" lang="en-US" sz="600" spc="-1" strike="noStrike">
                <a:solidFill>
                  <a:srgbClr val="808080"/>
                </a:solidFill>
                <a:latin typeface="'Palatino Linotype'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empShape.PNG"/>
          <p:cNvPicPr/>
          <p:nvPr/>
        </p:nvPicPr>
        <p:blipFill>
          <a:blip r:embed="rId2"/>
          <a:stretch/>
        </p:blipFill>
        <p:spPr>
          <a:xfrm>
            <a:off x="449280" y="44928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516640" y="808200"/>
            <a:ext cx="2122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What do you see on the Caldecott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Medal?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Look at the medal for 60 seconds,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then cover it up.  See how many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elements of the design you can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remember!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 MCPS user</cp:lastModifiedBy>
  <dcterms:modified xsi:type="dcterms:W3CDTF">2012-01-23T23:53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